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F52-8490-4F5B-90B9-3CF734C4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CFC-8439-432B-A15F-3A47872E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46C-9B5F-4222-ADE9-76B48685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173-E401-45E4-BDE4-977DD31D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62C-6B11-4473-8180-6788F0B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759-D97C-4CBF-AFED-EBFC963D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600-98FB-4681-B27A-E89C0A6E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31C-BF43-4121-9907-79B6781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586-790A-472C-B30C-EBE870B3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CB5-0282-42AA-B50D-8465A01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490-9F16-4723-9F5D-F47612C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B11-DDB7-4DB2-A1B5-79FA3BC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7A9-2AB4-4D8B-8D84-8A1C3C317D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fiweb.net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49920" y="177840"/>
            <a:ext cx="1882800" cy="173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268280"/>
            <a:ext cx="7292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Le lin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00"/>
                </a:solidFill>
                <a:latin typeface="Times New Roman"/>
              </a:rPr>
              <a:t>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Laboratorio Territoriale </a:t>
            </a:r>
            <a:r>
              <a:rPr b="1" lang="en-US" sz="3600" spc="-1" strike="noStrike">
                <a:solidFill>
                  <a:srgbClr val="005400"/>
                </a:solidFill>
                <a:latin typeface="Times New Roman"/>
              </a:rPr>
              <a:t>per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servizi formativi integr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73408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gno 21 Ottobre 200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zi territoriali per l’inte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alter M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9560" y="311040"/>
            <a:ext cx="627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Laboratorio,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ichie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za sul territorio di 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ov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 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a dotazione di organici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a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piuttosto la </a:t>
            </a:r>
            <a:r>
              <a:rPr b="1" lang="en-US" sz="3600" spc="-1" strike="noStrike" u="sng">
                <a:solidFill>
                  <a:srgbClr val="41d3d0"/>
                </a:solidFill>
                <a:uFillTx/>
                <a:latin typeface="Times New Roman"/>
              </a:rPr>
              <a:t>capacit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1d3d0"/>
                </a:solidFill>
                <a:uFillTx/>
                <a:latin typeface="Times New Roman"/>
              </a:rPr>
              <a:t>organizz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mess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tiv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gesti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za e on-l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FA9-F61B-4B0F-A71C-8F69FBCA55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46280" y="333360"/>
            <a:ext cx="616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n aspetto che de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aratterizzare il Laboratorio è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62dbd8"/>
                </a:solidFill>
                <a:uFillTx/>
                <a:latin typeface="Times New Roman"/>
              </a:rPr>
              <a:t>dimension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 u="sng">
                <a:solidFill>
                  <a:srgbClr val="ff9933"/>
                </a:solidFill>
                <a:uFillTx/>
                <a:latin typeface="Times New Roman"/>
              </a:rPr>
              <a:t>territorial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, ch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econda dei casi può ess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vinciale o subprovincia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299-BA18-409D-B141-E6D464E9B5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9360" y="220680"/>
            <a:ext cx="623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l criter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definir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mensione territoriale è 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esenz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u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cc"/>
                </a:solidFill>
                <a:uFillTx/>
                <a:latin typeface="Times New Roman"/>
              </a:rPr>
              <a:t>filie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istitu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e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ent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form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fessionale che coprano,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re dalla scuola media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u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dirizz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conda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erio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n modo da rend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 i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passagg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i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rient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D58-249C-4CB7-B73A-836CC28CD9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80960"/>
            <a:ext cx="831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livello regionale delle rete dei labor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-42840"/>
            <a:ext cx="820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l Governo del sistema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125360"/>
            <a:ext cx="2089440" cy="1213200"/>
          </a:xfrm>
          <a:prstGeom prst="ellipse">
            <a:avLst/>
          </a:prstGeom>
          <a:solidFill>
            <a:srgbClr val="ccffcc">
              <a:alpha val="70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413000"/>
            <a:ext cx="206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REG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520" y="1862280"/>
            <a:ext cx="38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feri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60" y="2273400"/>
            <a:ext cx="3095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entro 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492280"/>
            <a:ext cx="3529080" cy="2016360"/>
          </a:xfrm>
          <a:prstGeom prst="ellipse">
            <a:avLst/>
          </a:prstGeom>
          <a:solidFill>
            <a:srgbClr val="ccffff"/>
          </a:solidFill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852640"/>
            <a:ext cx="282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ENTRO RISORSE PROVIN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3284640"/>
            <a:ext cx="3456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ordinamen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lla r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5373720"/>
            <a:ext cx="6265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stema di istruzione e della formazione profess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4292640"/>
            <a:ext cx="1879560" cy="9237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365720"/>
            <a:ext cx="17859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90760" y="3850920"/>
            <a:ext cx="1014120" cy="78804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4365720"/>
            <a:ext cx="1879560" cy="9255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508640"/>
            <a:ext cx="1847880" cy="9093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4460760"/>
            <a:ext cx="178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75320" y="4207320"/>
            <a:ext cx="157320" cy="44676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22800" y="1916280"/>
            <a:ext cx="565200" cy="1023840"/>
          </a:xfrm>
          <a:prstGeom prst="upDownArrow">
            <a:avLst>
              <a:gd name="adj1" fmla="val 50065"/>
              <a:gd name="adj2" fmla="val 46964"/>
            </a:avLst>
          </a:prstGeom>
          <a:solidFill>
            <a:srgbClr val="ff9900">
              <a:alpha val="7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1846440"/>
            <a:ext cx="381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UFFICIO SCOLASTICO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90800" y="3646080"/>
            <a:ext cx="1051920" cy="95832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6800" y="4572000"/>
            <a:ext cx="1785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D60-F880-4DE5-8AC1-68E7F8756C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58840" y="71280"/>
            <a:ext cx="6743880" cy="914400"/>
          </a:xfrm>
          <a:prstGeom prst="rect">
            <a:avLst/>
          </a:prstGeom>
          <a:solidFill>
            <a:srgbClr val="ffffcc"/>
          </a:solidFill>
          <a:ln w="25560">
            <a:solidFill>
              <a:srgbClr val="a4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REGIONE / DIREZIONE REG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1440" y="650880"/>
            <a:ext cx="5600520" cy="94716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MMINISTRAZIONI</a:t>
            </a:r>
            <a:r>
              <a:rPr b="1" lang="en-US" sz="26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PROVIN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MMINISTARAZIONE</a:t>
            </a:r>
            <a:r>
              <a:rPr b="1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SCOLA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637000"/>
            <a:ext cx="6120000" cy="143964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ABORATORIO TERRITORIALE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ER I SERVIZI FORM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5086440"/>
            <a:ext cx="6120000" cy="143820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UOLE E CENTRI DI FORMAZIONE PROFESS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1614600"/>
            <a:ext cx="352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0000ff"/>
                </a:solidFill>
                <a:uFillTx/>
                <a:latin typeface="Times New Roman"/>
              </a:rPr>
              <a:t>Programmazione</a:t>
            </a: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dell’offerta form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3860640"/>
            <a:ext cx="3673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Domanda/</a:t>
            </a:r>
            <a:br>
              <a:rPr sz="2800"/>
            </a:b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Analisi dei bisog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341360"/>
            <a:ext cx="1028880" cy="1511280"/>
          </a:xfrm>
          <a:prstGeom prst="upDownArrow">
            <a:avLst>
              <a:gd name="adj1" fmla="val 45065"/>
              <a:gd name="adj2" fmla="val 42120"/>
            </a:avLst>
          </a:prstGeom>
          <a:solidFill>
            <a:srgbClr val="ff9900">
              <a:alpha val="40000"/>
            </a:srgbClr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5120" y="3895560"/>
            <a:ext cx="1028520" cy="1333800"/>
          </a:xfrm>
          <a:prstGeom prst="upDownArrow">
            <a:avLst>
              <a:gd name="adj1" fmla="val 45065"/>
              <a:gd name="adj2" fmla="val 37187"/>
            </a:avLst>
          </a:prstGeom>
          <a:solidFill>
            <a:srgbClr val="ff9900">
              <a:alpha val="40000"/>
            </a:srgbClr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98900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5858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Livello </a:t>
            </a:r>
            <a:br>
              <a:rPr sz="2800"/>
            </a:b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interistitu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40910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Progettazione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/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integrazione dei 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CAE-89B4-4F96-BF2C-39F78ADD4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2760" y="166680"/>
            <a:ext cx="626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l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che pensiam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rre, in via sperimentale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vr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e asse centra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’off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stina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al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tituzion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colastiche incent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orientamento, crediti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sserelle, stage e alter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A8B-091B-46E7-BA5C-87C23E81FF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8080" y="380880"/>
            <a:ext cx="2209680" cy="21495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0440" y="812880"/>
            <a:ext cx="2808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800" y="3448080"/>
            <a:ext cx="2209680" cy="2171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401472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AGG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I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RT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1880" y="495360"/>
            <a:ext cx="2362320" cy="24192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1760" y="979560"/>
            <a:ext cx="2514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IONI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ZIONE E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STEGNO DOC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82840" y="4610160"/>
            <a:ext cx="2210040" cy="2171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9920" y="5013360"/>
            <a:ext cx="2514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ROCIN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UOLA /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2240" y="3227400"/>
            <a:ext cx="2359080" cy="240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27720" y="3747960"/>
            <a:ext cx="2700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SIFIweb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1568520"/>
            <a:ext cx="3801960" cy="3459240"/>
          </a:xfrm>
          <a:prstGeom prst="ellipse">
            <a:avLst/>
          </a:prstGeom>
          <a:solidFill>
            <a:srgbClr val="ccffff">
              <a:alpha val="50000"/>
            </a:srgbClr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844640"/>
            <a:ext cx="36003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BORATORIO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RRITORIALE 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’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VIZI FORM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8680" y="3078000"/>
            <a:ext cx="31320" cy="11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3840" y="4802040"/>
            <a:ext cx="102960" cy="5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31880" y="4642560"/>
            <a:ext cx="101880" cy="5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77400" y="1593720"/>
            <a:ext cx="111600" cy="2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01920" y="3076920"/>
            <a:ext cx="21600" cy="113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9520" y="1720800"/>
            <a:ext cx="101520" cy="5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DELLO  LABORATORIO TERRITORIALE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’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3A3-2925-44DB-9E9D-FC12F5CB1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127080"/>
            <a:ext cx="640080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i, Istituzioni che gestiscono la Rete del Laboratorio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909720"/>
            <a:ext cx="601560" cy="647640"/>
          </a:xfrm>
          <a:prstGeom prst="downArrow">
            <a:avLst>
              <a:gd name="adj1" fmla="val 27491"/>
              <a:gd name="adj2" fmla="val 47336"/>
            </a:avLst>
          </a:prstGeom>
          <a:solidFill>
            <a:srgbClr val="a400a4">
              <a:alpha val="4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2080" y="2066760"/>
            <a:ext cx="3882960" cy="4457880"/>
          </a:xfrm>
          <a:prstGeom prst="rect">
            <a:avLst/>
          </a:prstGeom>
          <a:solidFill>
            <a:srgbClr val="ffff5b">
              <a:alpha val="7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SI  E RILETTUR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I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ISOG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AZI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venti formativi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gra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UPPOR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ENTI E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22560" y="1531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857240"/>
            <a:ext cx="2604960" cy="4000680"/>
          </a:xfrm>
          <a:prstGeom prst="rect">
            <a:avLst/>
          </a:prstGeom>
          <a:solidFill>
            <a:srgbClr val="ccffcc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Ut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hiedo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orto alla realizzazione di progetti  s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ge e alt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aggi e cred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1971720"/>
            <a:ext cx="2735280" cy="4697280"/>
          </a:xfrm>
          <a:prstGeom prst="rect">
            <a:avLst/>
          </a:prstGeom>
          <a:solidFill>
            <a:srgbClr val="cc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i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ZION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e opportunità presenti nella 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OGAZIONE DEL SERVIZ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a persona e alle Istitu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FFUSIONE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/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34136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88280" y="1484280"/>
            <a:ext cx="114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3600" y="4216320"/>
            <a:ext cx="914400" cy="365040"/>
          </a:xfrm>
          <a:prstGeom prst="leftRightArrow">
            <a:avLst>
              <a:gd name="adj1" fmla="val 46148"/>
              <a:gd name="adj2" fmla="val 79612"/>
            </a:avLst>
          </a:prstGeom>
          <a:solidFill>
            <a:srgbClr val="ff9900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3600" y="3716280"/>
            <a:ext cx="914400" cy="365040"/>
          </a:xfrm>
          <a:prstGeom prst="leftRightArrow">
            <a:avLst>
              <a:gd name="adj1" fmla="val 46148"/>
              <a:gd name="adj2" fmla="val 79612"/>
            </a:avLst>
          </a:prstGeom>
          <a:solidFill>
            <a:srgbClr val="ff9900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20480" y="658008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B5B-E0EE-4615-8728-67A50EA5D4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76360" y="260280"/>
            <a:ext cx="66978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tenu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l tempo del laboratorio,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oca sul coinvolgimento e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agonismo dei soggett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rattutto si gi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llo sviluppo  del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-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1" lang="en-US" sz="2800" spc="-1" strike="noStrike">
                <a:solidFill>
                  <a:srgbClr val="41d3d0"/>
                </a:solidFill>
                <a:latin typeface="Times New Roman"/>
              </a:rPr>
              <a:t>sito SIF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te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ivit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volte dai singoli partecipa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a re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sulta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cer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ll’integ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 serviz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cumen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riferimento alle esperi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integ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E54-471C-4F76-9FE3-B660A7142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189000"/>
            <a:ext cx="84250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ltura dell’integr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richie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cre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struttu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coordin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di mettere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rel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o stabi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uole  con la form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fessiona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n’offer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servizi integra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 abbiano a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entro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ude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B9B-B267-40EE-983E-A2260A942E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487520"/>
            <a:ext cx="84981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gg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nc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’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organizzazione territoria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4800" spc="-1" strike="noStrike" u="sng">
                <a:solidFill>
                  <a:srgbClr val="ff6600"/>
                </a:solidFill>
                <a:uFillTx/>
                <a:latin typeface="Times New Roman"/>
              </a:rPr>
              <a:t>mettere</a:t>
            </a: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sistem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le </a:t>
            </a:r>
            <a:r>
              <a:rPr b="0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esperien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re lor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isibilit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inuità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651-4B05-4C6F-A90C-44DC4E4E0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8720" y="841320"/>
            <a:ext cx="83516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 un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gover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’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offert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formati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llo di territorio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soddisf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una domanda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ov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isogn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tivi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rge da un’utenza, sempre pi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erogene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c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spr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diritto soggettiv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formazion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CD7-82F3-4757-A0B6-CC05AC20E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139760"/>
            <a:ext cx="633744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al è il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modell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 riferimento de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boratorio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9B3-3570-480D-969A-FFDA2685F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8040" y="112680"/>
            <a:ext cx="646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3600" spc="-1" strike="noStrike" u="sng">
                <a:solidFill>
                  <a:srgbClr val="808000"/>
                </a:solidFill>
                <a:uFillTx/>
                <a:latin typeface="Times New Roman"/>
              </a:rPr>
              <a:t>concet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integrazione 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ziare è quello che ha c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centralit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ude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el su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iluppo di apprendiment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’integrazione si config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un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potenzi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’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offerta formativa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ina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rantita dall’istitu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lastica ed è finalizzata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rantire il successo formativ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tu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gli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stud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BF7-3A62-4F3B-A98F-BF31C72301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6320" y="382680"/>
            <a:ext cx="617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siamo all’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gr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un insieme di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zion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didattic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form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educ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il sistem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ranti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mett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gr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 studente di affrontare le fas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sse del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passagg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E7-39A3-4B3C-BB42-E1D6BAEFB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5800" y="549360"/>
            <a:ext cx="625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 quale struttura sar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ganizzato i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boratorio Territoria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0E2-36D2-4E37-98A3-574D44D27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1040" y="189000"/>
            <a:ext cx="6234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siamo ad un Centro Risor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ato su una strutt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organizzati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ccff"/>
                </a:solidFill>
                <a:uFillTx/>
                <a:latin typeface="Times New Roman"/>
              </a:rPr>
              <a:t>legge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entrata sul </a:t>
            </a:r>
            <a:r>
              <a:rPr b="1" lang="en-US" sz="3600" spc="-1" strike="noStrike" u="sng">
                <a:solidFill>
                  <a:srgbClr val="00deb4"/>
                </a:solidFill>
                <a:uFillTx/>
                <a:latin typeface="Times New Roman"/>
              </a:rPr>
              <a:t>concet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 </a:t>
            </a:r>
            <a:r>
              <a:rPr b="1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0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Formativ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og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tituzione scolastica e centr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zione professionale pu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frire e ricev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0EF-C1CF-40B2-AB7E-3C5D6016BE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0:02:49Z</dcterms:created>
  <dc:creator>barton</dc:creator>
  <dc:description/>
  <dc:language>en-US</dc:language>
  <cp:lastModifiedBy>berta</cp:lastModifiedBy>
  <dcterms:modified xsi:type="dcterms:W3CDTF">2002-07-06T18:31:02Z</dcterms:modified>
  <cp:revision>16</cp:revision>
  <dc:subject/>
  <dc:title>Diapositiva 1</dc:title>
</cp:coreProperties>
</file>